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chomp.wav" ContentType="audio/x-wav"/>
  <Override PartName="/ppt/media/image8.jpeg" ContentType="image/jpeg"/>
  <Override PartName="/ppt/media/image2.jpeg" ContentType="image/jpeg"/>
  <Override PartName="/ppt/media/explosion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crunch.wav" ContentType="audio/x-wav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6326-8D4B-47E1-B09E-325D045B0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BD69-E10D-437F-8861-C0FF9C8D47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62CB-033D-40EA-892A-125493FF70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B15D-4BE6-4F43-9E9A-18702AA1BF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7BC8-A74B-490E-A0DB-04F8635B65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2CA0-C76C-418B-8319-FB690AF4A7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ABD7-64DF-4406-A44B-061436C5A0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A50A-CEFE-43DB-8E54-7621D12244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8D9F-0714-4B54-8146-E2D5A6A58F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1880-656A-403F-BDFD-430815B057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ADDC-3ED9-42A3-8820-E2920F91C6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F676-4B3B-4139-BA7E-133B69D76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8863-5676-453A-991F-39B3469B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9513-A512-4F65-A066-CC479367A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5A46-64C7-4445-8077-05FA0B4F6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2D8D-155A-47D8-8305-79EF0E91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5292-F5B9-4E0B-927E-1C71DBC61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9ED0-FEB1-445A-8C68-BB23BF07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9A3F-993D-4430-B41D-23834BC1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4CAA6-64C6-4278-9FA0-63434CF5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9D76-DD9E-4450-A8A8-BCB31B0B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CF50-00BC-4D2F-AF97-67C0BA89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3BD4-C76A-494D-9C88-8FFFFC5D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D3D05-3A7E-46FE-B23D-477E08E8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7C4C-3D44-4732-AF87-848CDB7A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1959-5A86-4102-AB4A-C1B41539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58C8E-6378-4D4D-AE8E-D1DF3F32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AF9D-1B65-48D6-A9DE-BF6420FD5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50D0-4C72-4E5A-9ED1-E1285BDAA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A6C0-EF8A-400B-BAB3-30CB344A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0562-1FB4-4D0F-BBB9-38448406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F6A1-252F-4D91-9472-A254FF6D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3FC0-3992-491A-83BD-6627B5E0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5AA4-C4A5-494F-834F-5D237D1C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50BE-7AF1-4A39-8AF4-B75EBEA6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2310-E2DC-40FB-89A5-27B293A5B4F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FD6B-B831-44F2-9760-6C36063060C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omp.wav"/><Relationship Id="rId3" Type="http://schemas.openxmlformats.org/officeDocument/2006/relationships/audio" Target="../media/chomp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omp.wav"/><Relationship Id="rId3" Type="http://schemas.openxmlformats.org/officeDocument/2006/relationships/audio" Target="../media/chomp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audio" Target="../media/crunch.wav"/><Relationship Id="rId8" Type="http://schemas.openxmlformats.org/officeDocument/2006/relationships/audio" Target="../media/crunch.wav"/><Relationship Id="rId9" Type="http://schemas.openxmlformats.org/officeDocument/2006/relationships/audio" Target="../media/crunch.wav"/><Relationship Id="rId10" Type="http://schemas.openxmlformats.org/officeDocument/2006/relationships/audio" Target="../media/explosion.wav"/><Relationship Id="rId11" Type="http://schemas.openxmlformats.org/officeDocument/2006/relationships/audio" Target="../media/explosion.wav"/><Relationship Id="rId12" Type="http://schemas.openxmlformats.org/officeDocument/2006/relationships/audio" Target="../media/explosion.wav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audio" Target="../media/crunch.wav"/><Relationship Id="rId8" Type="http://schemas.openxmlformats.org/officeDocument/2006/relationships/audio" Target="../media/crunch.wav"/><Relationship Id="rId9" Type="http://schemas.openxmlformats.org/officeDocument/2006/relationships/audio" Target="../media/explosion.wav"/><Relationship Id="rId10" Type="http://schemas.openxmlformats.org/officeDocument/2006/relationships/audio" Target="../media/explosion.wav"/><Relationship Id="rId11" Type="http://schemas.openxmlformats.org/officeDocument/2006/relationships/audio" Target="../media/crunch.wav"/><Relationship Id="rId12" Type="http://schemas.openxmlformats.org/officeDocument/2006/relationships/audio" Target="../media/explosion.wav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6"/>
          <p:cNvSpPr/>
          <p:nvPr/>
        </p:nvSpPr>
        <p:spPr>
          <a:xfrm>
            <a:off x="6400800" y="3886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6400800" y="4419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8" descr="bluegorilla.jpg"/>
          <p:cNvPicPr/>
          <p:nvPr/>
        </p:nvPicPr>
        <p:blipFill>
          <a:blip r:embed="rId1"/>
          <a:srcRect l="17465" t="0" r="0" b="0"/>
          <a:stretch/>
        </p:blipFill>
        <p:spPr>
          <a:xfrm>
            <a:off x="0" y="1295280"/>
            <a:ext cx="3962520" cy="4876920"/>
          </a:xfrm>
          <a:prstGeom prst="rect">
            <a:avLst/>
          </a:prstGeom>
          <a:ln w="0">
            <a:noFill/>
          </a:ln>
        </p:spPr>
      </p:pic>
      <p:sp>
        <p:nvSpPr>
          <p:cNvPr id="130" name="Rounded Rectangular Callout 4"/>
          <p:cNvSpPr/>
          <p:nvPr/>
        </p:nvSpPr>
        <p:spPr>
          <a:xfrm>
            <a:off x="5105520" y="3048120"/>
            <a:ext cx="3352680" cy="2666880"/>
          </a:xfrm>
          <a:prstGeom prst="wedgeRoundRectCallout">
            <a:avLst>
              <a:gd name="adj1" fmla="val -101467"/>
              <a:gd name="adj2" fmla="val 878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resentation is brought to you by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Grammar Byte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©2014 by Robin L. Simm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Quick Test, Part 1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762120" y="1676520"/>
            <a:ext cx="76197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Direction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items that follow, choose the sentence that has no errors in struc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6" descr="studygirl.jpg"/>
          <p:cNvPicPr/>
          <p:nvPr/>
        </p:nvPicPr>
        <p:blipFill>
          <a:blip r:embed="rId1"/>
          <a:stretch/>
        </p:blipFill>
        <p:spPr>
          <a:xfrm>
            <a:off x="1828800" y="3048120"/>
            <a:ext cx="2025720" cy="3504960"/>
          </a:xfrm>
          <a:prstGeom prst="rect">
            <a:avLst/>
          </a:prstGeom>
          <a:ln w="0">
            <a:noFill/>
          </a:ln>
        </p:spPr>
      </p:pic>
      <p:sp>
        <p:nvSpPr>
          <p:cNvPr id="185" name="Rounded Rectangular Callout 8"/>
          <p:cNvSpPr/>
          <p:nvPr/>
        </p:nvSpPr>
        <p:spPr>
          <a:xfrm>
            <a:off x="5715000" y="4191120"/>
            <a:ext cx="2057400" cy="1828800"/>
          </a:xfrm>
          <a:prstGeom prst="wedgeRoundRectCallout">
            <a:avLst>
              <a:gd name="adj1" fmla="val -175712"/>
              <a:gd name="adj2" fmla="val -31509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see how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yo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251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751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TextBox 3"/>
          <p:cNvSpPr/>
          <p:nvPr/>
        </p:nvSpPr>
        <p:spPr>
          <a:xfrm>
            <a:off x="457200" y="175248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65120" indent="-46512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arking dogs, kittens that were meowing, and squawking parakeets greet the pet shop visit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46512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arking dogs, meowing kittens, and squawking parakeets greet the pet shop visit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46512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gs that bark, kittens that meow, and parakeets squawking greet the pet shop visit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457200" y="1752480"/>
            <a:ext cx="8229600" cy="434340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65120" indent="-46512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arking dogs, kittens that were meowing, and squawking parakeets greet the pet shop visit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465120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arking dogs, meowing kittens, and squawking parakeets greet the pet shop visit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46512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gs that bark, kittens that meow, and parakeets squawking greet the pet shop visit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2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" name="TextBox 3"/>
          <p:cNvSpPr/>
          <p:nvPr/>
        </p:nvSpPr>
        <p:spPr>
          <a:xfrm>
            <a:off x="457200" y="182880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65120" indent="-46512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uring class, Samuel spent his time flirting with Brittney, eating candy, and doodling on the assignment she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46512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uring class, Samuel spent his time flirting with Brittney, he ate candy, and doodling on the assignment she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46512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uring class, Samuel spent his time to flirt with Brittney, to eat candy, and doodling on the assignment she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5"/>
          <p:cNvSpPr/>
          <p:nvPr/>
        </p:nvSpPr>
        <p:spPr>
          <a:xfrm>
            <a:off x="457200" y="1828800"/>
            <a:ext cx="8229600" cy="44197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65120" indent="-465120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During class, Samuel spent his time flirting with Brittney, eating candy, and doodling on the assignment she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46512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uring class, Samuel spent his time flirting with Brittney, he ate candy, and doodling on the assignment she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46512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uring class, Samuel spent his time to flirt with Brittney, to eat candy, and doodling on the assignment she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3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TextBox 3"/>
          <p:cNvSpPr/>
          <p:nvPr/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ex looked everywhere for his math book—under the bed, on his desk, and he searched inside the refrigera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ex looked everywhere for his math book—viewing under the bed, searching on his desk, and inside the refrigera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ex looked everywhere for his math book—under the bed, on his desk, and inside the refrigera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Box 4"/>
          <p:cNvSpPr/>
          <p:nvPr/>
        </p:nvSpPr>
        <p:spPr>
          <a:xfrm>
            <a:off x="457200" y="1905120"/>
            <a:ext cx="8229600" cy="441936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ex looked everywhere for his math book—under the bed, on his desk, and he searched inside the refrigera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ex looked everywhere for his math book—viewing under the bed, searching on his desk, and inside the refrigera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lex looked everywhere for his math book—under the bed, on his desk, and inside the refrigera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4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6" name="TextBox 3"/>
          <p:cNvSpPr/>
          <p:nvPr/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manager wanted staff who arrived on time, smiled at the customers, and didn’t snack on the chicken nugg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manager wanted staff who arrived on time, would be smiling at the customers, and would not be snacking on the chicken nugg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manager wanted staff who arrived on time, smiled at the customers, and no snacking on the chicken nugg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Box 4"/>
          <p:cNvSpPr/>
          <p:nvPr/>
        </p:nvSpPr>
        <p:spPr>
          <a:xfrm>
            <a:off x="457200" y="1828800"/>
            <a:ext cx="8229600" cy="449568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457200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he manager wanted staff who arrived on time, smiled at the customers, and didn’t snack on the chicken nugg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manager wanted staff who arrived on time, would be smiling at the customers, and would not be snacking on the chicken nugg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manager wanted staff who arrived on time, smiled at the customers, and no snacking on the chicken nugg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5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TextBox 3"/>
          <p:cNvSpPr/>
          <p:nvPr/>
        </p:nvSpPr>
        <p:spPr>
          <a:xfrm>
            <a:off x="4572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fter giving Jeremy her phone number, Felicia had to tolerate his late night calls, stupid conversations, and requests for her math homework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fter giving Jeremy her phone number, Felicia had to tolerate his late night calls, the fact that he carried on stupid conversations, and requests for her math homework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fter giving Jeremy her phone number, Felicia had to tolerate being woken up late at night, having stupid conversations, and he constantly requested her math homework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Box 5"/>
          <p:cNvSpPr/>
          <p:nvPr/>
        </p:nvSpPr>
        <p:spPr>
          <a:xfrm>
            <a:off x="457200" y="1752480"/>
            <a:ext cx="8229600" cy="48769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After giving Jeremy her phone number, Felicia had to tolerate his late night calls, stupid conversations, and requests for her math homework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After giving Jeremy her phone number, Felicia had to tolerate his late night calls, the fact that he carried on stupid conversations, and requests for her math homework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After giving Jeremy her phone number, Felicia had to tolerate being woken up late at night, having stupid conversations, and he constantly requested her math homework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Quick Test, Part 2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2" name="TextBox 4"/>
          <p:cNvSpPr/>
          <p:nvPr/>
        </p:nvSpPr>
        <p:spPr>
          <a:xfrm>
            <a:off x="762120" y="1676520"/>
            <a:ext cx="76197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Direction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items that follow, choose the correct word or phrase within the context suggested by the sent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5" descr="studygirl02.JPG"/>
          <p:cNvPicPr/>
          <p:nvPr/>
        </p:nvPicPr>
        <p:blipFill>
          <a:blip r:embed="rId1"/>
          <a:stretch/>
        </p:blipFill>
        <p:spPr>
          <a:xfrm>
            <a:off x="5356080" y="3200400"/>
            <a:ext cx="1924200" cy="3327480"/>
          </a:xfrm>
          <a:prstGeom prst="rect">
            <a:avLst/>
          </a:prstGeom>
          <a:ln w="0">
            <a:noFill/>
          </a:ln>
        </p:spPr>
      </p:pic>
      <p:sp>
        <p:nvSpPr>
          <p:cNvPr id="204" name="Rounded Rectangular Callout 8"/>
          <p:cNvSpPr/>
          <p:nvPr/>
        </p:nvSpPr>
        <p:spPr>
          <a:xfrm>
            <a:off x="1676520" y="4572000"/>
            <a:ext cx="2057400" cy="1523880"/>
          </a:xfrm>
          <a:prstGeom prst="wedgeRoundRectCallout">
            <a:avLst>
              <a:gd name="adj1" fmla="val 165550"/>
              <a:gd name="adj2" fmla="val -52439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try a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differ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6861"/>
                            </p:stCondLst>
                            <p:childTnLst>
                              <p:par>
                                <p:cTn id="3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7361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6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TextBox 3"/>
          <p:cNvSpPr/>
          <p:nvPr/>
        </p:nvSpPr>
        <p:spPr>
          <a:xfrm>
            <a:off x="457200" y="182880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sta boiling in water, __________, and garlic bread baking in the oven welcomed Francisco as he opened the do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mmered tomato sauce in the 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mato sauce simmering in the 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mato sauce that simmered in the 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ucy tomatoes that were simmering in the 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Box 5"/>
          <p:cNvSpPr/>
          <p:nvPr/>
        </p:nvSpPr>
        <p:spPr>
          <a:xfrm>
            <a:off x="457200" y="1828800"/>
            <a:ext cx="8229600" cy="403848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sta boiling in water, __________, and garlic bread baking in the oven welcomed Francisco as he opened the do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mmered tomato sauce in the 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omato sauce simmering in the 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mato sauce that simmered in the 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ucy tomatoes that were simmering in the 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7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TextBox 3"/>
          <p:cNvSpPr/>
          <p:nvPr/>
        </p:nvSpPr>
        <p:spPr>
          <a:xfrm>
            <a:off x="457200" y="1676520"/>
            <a:ext cx="8229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uring our vacation in the Bahamas, we hope __________, to enjoy beautiful sunsets, and to dance ourselves dizzy at reggae club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at we eat delicious sea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at eating delicious seafood occ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 eat delicious sea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ating delicious sea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457200" y="1676520"/>
            <a:ext cx="8229600" cy="419076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uring our vacation in the Bahamas, we hope __________, to enjoy beautiful sunsets, and to dance ourselves dizzy at reggae club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at we eat delicious sea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at eating delicious seafood occ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o eat delicious sea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ating delicious sea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8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2" name="TextBox 3"/>
          <p:cNvSpPr/>
          <p:nvPr/>
        </p:nvSpPr>
        <p:spPr>
          <a:xfrm>
            <a:off x="380880" y="1905120"/>
            <a:ext cx="830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aren wished Ray chewed with his mouth closed, for otherwise he was everything she wanted in a date; he was tall, intelligent, and __________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looked g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ing good loo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e handsome man to look 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nds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380880" y="1905120"/>
            <a:ext cx="8305920" cy="388620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aren wished Ray chewed with his mouth closed, for otherwise he was everything she wanted in a date; he was tall, intelligent, and __________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looked g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ing good loo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e handsome man to look 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ands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parallel01_edit.JPG"/>
          <p:cNvPicPr/>
          <p:nvPr/>
        </p:nvPicPr>
        <p:blipFill>
          <a:blip r:embed="rId1"/>
          <a:stretch/>
        </p:blipFill>
        <p:spPr>
          <a:xfrm>
            <a:off x="3232080" y="1981080"/>
            <a:ext cx="2635200" cy="48578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Parallel Structur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Rounded Rectangular Callout 7"/>
          <p:cNvSpPr/>
          <p:nvPr/>
        </p:nvSpPr>
        <p:spPr>
          <a:xfrm>
            <a:off x="304920" y="3809880"/>
            <a:ext cx="2438280" cy="1828800"/>
          </a:xfrm>
          <a:prstGeom prst="wedgeRoundRectCallout">
            <a:avLst>
              <a:gd name="adj1" fmla="val 106949"/>
              <a:gd name="adj2" fmla="val -4272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I maintain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parallelis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participl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ounded Rectangular Callout 8"/>
          <p:cNvSpPr/>
          <p:nvPr/>
        </p:nvSpPr>
        <p:spPr>
          <a:xfrm>
            <a:off x="6629400" y="4114800"/>
            <a:ext cx="2209680" cy="1600200"/>
          </a:xfrm>
          <a:prstGeom prst="wedgeRoundRectCallout">
            <a:avLst>
              <a:gd name="adj1" fmla="val -134851"/>
              <a:gd name="adj2" fmla="val -5690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should I use an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infinitiv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901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9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457200" y="175248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 win Laurie’s love, Albert visited the florist for roses, the drugstore for a box of chocolates, and __________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ought an expensive gold necklace at the jewelry st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jeweler for an expensive gold neck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jeweler where he bought an expensive gold neck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 buy an expensive gold neck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Box 5"/>
          <p:cNvSpPr/>
          <p:nvPr/>
        </p:nvSpPr>
        <p:spPr>
          <a:xfrm>
            <a:off x="457200" y="1752480"/>
            <a:ext cx="8229600" cy="480060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 win Laurie’s love, Albert visited the florist for roses, the drugstore for a box of chocolates, and __________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ought an expensive gold necklace at the jewelry st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he jeweler for an expensive gold neck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jeweler where he bought an expensive gold neck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 buy an expensive gold neck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0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8" name="TextBox 3"/>
          <p:cNvSpPr/>
          <p:nvPr/>
        </p:nvSpPr>
        <p:spPr>
          <a:xfrm>
            <a:off x="457200" y="182880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imberly won’t date Terry because he is too short, too noisy, and _________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cause he picks his teeth with his fing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o impol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 the most impolite man she has ever m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icking his teeth with his fing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457200" y="1828800"/>
            <a:ext cx="8229600" cy="358128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imberly won’t date Terry because he is too short, too noisy, and _________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cause he picks his teeth with his fing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oo impol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 the most impolite man she has ever m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icking his teeth with his fing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6"/>
          <p:cNvSpPr/>
          <p:nvPr/>
        </p:nvSpPr>
        <p:spPr>
          <a:xfrm>
            <a:off x="6400800" y="3886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>
            <a:off x="6400800" y="4419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8" descr="bluegorilla.jpg"/>
          <p:cNvPicPr/>
          <p:nvPr/>
        </p:nvPicPr>
        <p:blipFill>
          <a:blip r:embed="rId1"/>
          <a:srcRect l="17465" t="0" r="0" b="0"/>
          <a:stretch/>
        </p:blipFill>
        <p:spPr>
          <a:xfrm>
            <a:off x="0" y="1295280"/>
            <a:ext cx="3962520" cy="4876920"/>
          </a:xfrm>
          <a:prstGeom prst="rect">
            <a:avLst/>
          </a:prstGeom>
          <a:ln w="0">
            <a:noFill/>
          </a:ln>
        </p:spPr>
      </p:pic>
      <p:sp>
        <p:nvSpPr>
          <p:cNvPr id="223" name="Rounded Rectangular Callout 4"/>
          <p:cNvSpPr/>
          <p:nvPr/>
        </p:nvSpPr>
        <p:spPr>
          <a:xfrm>
            <a:off x="4495680" y="1828800"/>
            <a:ext cx="4267440" cy="3581280"/>
          </a:xfrm>
          <a:prstGeom prst="wedgeRoundRectCallout">
            <a:avLst>
              <a:gd name="adj1" fmla="val -83449"/>
              <a:gd name="adj2" fmla="val 2619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Grammar Byte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additional handouts and exercises on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parallel struc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Go to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chompchomp.com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3"/>
          <p:cNvSpPr/>
          <p:nvPr/>
        </p:nvSpPr>
        <p:spPr>
          <a:xfrm>
            <a:off x="2286000" y="289548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he End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thumbsup_edit.JPG"/>
          <p:cNvPicPr/>
          <p:nvPr/>
        </p:nvPicPr>
        <p:blipFill>
          <a:blip r:embed="rId1"/>
          <a:stretch/>
        </p:blipFill>
        <p:spPr>
          <a:xfrm>
            <a:off x="4800600" y="762120"/>
            <a:ext cx="3218040" cy="5790960"/>
          </a:xfrm>
          <a:prstGeom prst="rect">
            <a:avLst/>
          </a:prstGeom>
          <a:ln w="0">
            <a:noFill/>
          </a:ln>
        </p:spPr>
      </p:pic>
      <p:sp>
        <p:nvSpPr>
          <p:cNvPr id="136" name="Rounded Rectangular Callout 2"/>
          <p:cNvSpPr/>
          <p:nvPr/>
        </p:nvSpPr>
        <p:spPr>
          <a:xfrm>
            <a:off x="990720" y="2286000"/>
            <a:ext cx="2514600" cy="3505320"/>
          </a:xfrm>
          <a:prstGeom prst="wedgeRoundRectCallout">
            <a:avLst>
              <a:gd name="adj1" fmla="val 144865"/>
              <a:gd name="adj2" fmla="val -25712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resentation covers distinguishing between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paralle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non-paralle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1523880"/>
            <a:ext cx="7315200" cy="3733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 parallelism item on an objective test might look like this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ample Item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457200" y="1676520"/>
            <a:ext cx="815328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65120" indent="-46512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ileen bought new shoes for the party, a gold charm for her mother, and to treat her best friend Maria to lun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46512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ileen decided to buy new shoes for the party, purchasing a gold charm for her mother, and treating her best friend Maria to lun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46512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ileen purchased new shoes for the party, a gold charm for her mother, and lunch for Maria, her best frie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457200" y="1676520"/>
            <a:ext cx="8153280" cy="510516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65120" indent="-46512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ileen bought new shoes for the party, a gold charm for her mother, and to treat her best friend Maria to lun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46512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ileen decided to buy new shoes for the party, purchasing a gold charm for her mother, and treating her best friend Maria to lun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465120">
              <a:lnSpc>
                <a:spcPct val="100000"/>
              </a:lnSpc>
              <a:spcAft>
                <a:spcPts val="400"/>
              </a:spcAft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Eileen purchased new shoes for the party, a gold charm for her mother, and lunch for Maria, her best frie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457200" y="15238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  <a:ea typeface="Arial"/>
              </a:rPr>
              <a:t>Direction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Choose the sentence that has no errors in struc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027"/>
          <p:cNvSpPr/>
          <p:nvPr/>
        </p:nvSpPr>
        <p:spPr>
          <a:xfrm>
            <a:off x="685800" y="22860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144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Parallel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looks like th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175248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tems in a series must have parallel structure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4" name="Picture 7" descr="apple_edit.JPG"/>
          <p:cNvPicPr/>
          <p:nvPr/>
        </p:nvPicPr>
        <p:blipFill>
          <a:blip r:embed="rId1"/>
          <a:stretch/>
        </p:blipFill>
        <p:spPr>
          <a:xfrm>
            <a:off x="2438280" y="2965320"/>
            <a:ext cx="884520" cy="844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apple_edit.JPG"/>
          <p:cNvPicPr/>
          <p:nvPr/>
        </p:nvPicPr>
        <p:blipFill>
          <a:blip r:embed="rId2"/>
          <a:stretch/>
        </p:blipFill>
        <p:spPr>
          <a:xfrm>
            <a:off x="3962520" y="2965320"/>
            <a:ext cx="884160" cy="844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apple_edit.JPG"/>
          <p:cNvPicPr/>
          <p:nvPr/>
        </p:nvPicPr>
        <p:blipFill>
          <a:blip r:embed="rId3"/>
          <a:stretch/>
        </p:blipFill>
        <p:spPr>
          <a:xfrm>
            <a:off x="6202440" y="2965320"/>
            <a:ext cx="884160" cy="844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bomb_edit.JPG"/>
          <p:cNvPicPr/>
          <p:nvPr/>
        </p:nvPicPr>
        <p:blipFill>
          <a:blip r:embed="rId4"/>
          <a:stretch/>
        </p:blipFill>
        <p:spPr>
          <a:xfrm>
            <a:off x="2438280" y="4452840"/>
            <a:ext cx="909720" cy="1185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bomb_edit.JPG"/>
          <p:cNvPicPr/>
          <p:nvPr/>
        </p:nvPicPr>
        <p:blipFill>
          <a:blip r:embed="rId5"/>
          <a:stretch/>
        </p:blipFill>
        <p:spPr>
          <a:xfrm>
            <a:off x="3962520" y="4452840"/>
            <a:ext cx="909360" cy="1185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bomb_edit.JPG"/>
          <p:cNvPicPr/>
          <p:nvPr/>
        </p:nvPicPr>
        <p:blipFill>
          <a:blip r:embed="rId6"/>
          <a:stretch/>
        </p:blipFill>
        <p:spPr>
          <a:xfrm>
            <a:off x="6253200" y="4419720"/>
            <a:ext cx="909720" cy="1185840"/>
          </a:xfrm>
          <a:prstGeom prst="rect">
            <a:avLst/>
          </a:prstGeom>
          <a:ln w="0">
            <a:noFill/>
          </a:ln>
        </p:spPr>
      </p:pic>
      <p:sp>
        <p:nvSpPr>
          <p:cNvPr id="150" name="TextBox 14"/>
          <p:cNvSpPr/>
          <p:nvPr/>
        </p:nvSpPr>
        <p:spPr>
          <a:xfrm>
            <a:off x="990720" y="3124080"/>
            <a:ext cx="1371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15"/>
          <p:cNvSpPr/>
          <p:nvPr/>
        </p:nvSpPr>
        <p:spPr>
          <a:xfrm>
            <a:off x="3429000" y="31240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Box 16"/>
          <p:cNvSpPr/>
          <p:nvPr/>
        </p:nvSpPr>
        <p:spPr>
          <a:xfrm>
            <a:off x="4952880" y="3124080"/>
            <a:ext cx="1143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Box 17"/>
          <p:cNvSpPr/>
          <p:nvPr/>
        </p:nvSpPr>
        <p:spPr>
          <a:xfrm>
            <a:off x="990720" y="4952880"/>
            <a:ext cx="1371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18"/>
          <p:cNvSpPr/>
          <p:nvPr/>
        </p:nvSpPr>
        <p:spPr>
          <a:xfrm>
            <a:off x="3429000" y="49528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Box 19"/>
          <p:cNvSpPr/>
          <p:nvPr/>
        </p:nvSpPr>
        <p:spPr>
          <a:xfrm>
            <a:off x="5029200" y="4952880"/>
            <a:ext cx="1143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Box 20"/>
          <p:cNvSpPr/>
          <p:nvPr/>
        </p:nvSpPr>
        <p:spPr>
          <a:xfrm>
            <a:off x="7086600" y="31240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Box 21"/>
          <p:cNvSpPr/>
          <p:nvPr/>
        </p:nvSpPr>
        <p:spPr>
          <a:xfrm>
            <a:off x="7086600" y="49528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181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582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runc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582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582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runc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3582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4883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runc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4883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401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s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401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901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s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901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15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4702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s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4702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Here is an example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Rectangle 1027"/>
          <p:cNvSpPr/>
          <p:nvPr/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144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ane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ate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pizza,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wiped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lips, and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burped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th content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44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3" descr="thumbsup_edit.JPG"/>
          <p:cNvPicPr/>
          <p:nvPr/>
        </p:nvPicPr>
        <p:blipFill>
          <a:blip r:embed="rId1"/>
          <a:stretch/>
        </p:blipFill>
        <p:spPr>
          <a:xfrm>
            <a:off x="6332400" y="3124080"/>
            <a:ext cx="2075040" cy="3733920"/>
          </a:xfrm>
          <a:prstGeom prst="rect">
            <a:avLst/>
          </a:prstGeom>
          <a:ln w="0">
            <a:noFill/>
          </a:ln>
        </p:spPr>
      </p:pic>
      <p:sp>
        <p:nvSpPr>
          <p:cNvPr id="161" name="Rounded Rectangular Callout 4"/>
          <p:cNvSpPr/>
          <p:nvPr/>
        </p:nvSpPr>
        <p:spPr>
          <a:xfrm>
            <a:off x="990720" y="4191120"/>
            <a:ext cx="3504960" cy="2133360"/>
          </a:xfrm>
          <a:prstGeom prst="wedgeRoundRectCallout">
            <a:avLst>
              <a:gd name="adj1" fmla="val 126518"/>
              <a:gd name="adj2" fmla="val -3034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A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ast tense verb;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wip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ast tense verb; an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burp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ast tense ver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781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4281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027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144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Non-parallel structure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oks like th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152424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Don’t create problems by mixing grammatical elements.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64" name="Picture 7" descr="apple_edit.JPG"/>
          <p:cNvPicPr/>
          <p:nvPr/>
        </p:nvPicPr>
        <p:blipFill>
          <a:blip r:embed="rId1"/>
          <a:stretch/>
        </p:blipFill>
        <p:spPr>
          <a:xfrm>
            <a:off x="2438280" y="3346560"/>
            <a:ext cx="884520" cy="844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apple_edit.JPG"/>
          <p:cNvPicPr/>
          <p:nvPr/>
        </p:nvPicPr>
        <p:blipFill>
          <a:blip r:embed="rId2"/>
          <a:stretch/>
        </p:blipFill>
        <p:spPr>
          <a:xfrm>
            <a:off x="3962520" y="3346560"/>
            <a:ext cx="884160" cy="844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apple_edit.JPG"/>
          <p:cNvPicPr/>
          <p:nvPr/>
        </p:nvPicPr>
        <p:blipFill>
          <a:blip r:embed="rId3"/>
          <a:stretch/>
        </p:blipFill>
        <p:spPr>
          <a:xfrm>
            <a:off x="3962520" y="5181480"/>
            <a:ext cx="884160" cy="8445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bomb_edit.JPG"/>
          <p:cNvPicPr/>
          <p:nvPr/>
        </p:nvPicPr>
        <p:blipFill>
          <a:blip r:embed="rId4"/>
          <a:stretch/>
        </p:blipFill>
        <p:spPr>
          <a:xfrm>
            <a:off x="2438280" y="4834080"/>
            <a:ext cx="909720" cy="11858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bomb_edit.JPG"/>
          <p:cNvPicPr/>
          <p:nvPr/>
        </p:nvPicPr>
        <p:blipFill>
          <a:blip r:embed="rId5"/>
          <a:stretch/>
        </p:blipFill>
        <p:spPr>
          <a:xfrm>
            <a:off x="6253200" y="3124080"/>
            <a:ext cx="909720" cy="1185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3" descr="bomb_edit.JPG"/>
          <p:cNvPicPr/>
          <p:nvPr/>
        </p:nvPicPr>
        <p:blipFill>
          <a:blip r:embed="rId6"/>
          <a:stretch/>
        </p:blipFill>
        <p:spPr>
          <a:xfrm>
            <a:off x="6253200" y="4757760"/>
            <a:ext cx="909720" cy="1185840"/>
          </a:xfrm>
          <a:prstGeom prst="rect">
            <a:avLst/>
          </a:prstGeom>
          <a:ln w="0">
            <a:noFill/>
          </a:ln>
        </p:spPr>
      </p:pic>
      <p:sp>
        <p:nvSpPr>
          <p:cNvPr id="170" name="TextBox 14"/>
          <p:cNvSpPr/>
          <p:nvPr/>
        </p:nvSpPr>
        <p:spPr>
          <a:xfrm>
            <a:off x="990720" y="3657600"/>
            <a:ext cx="1371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Box 15"/>
          <p:cNvSpPr/>
          <p:nvPr/>
        </p:nvSpPr>
        <p:spPr>
          <a:xfrm>
            <a:off x="3429000" y="365760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Box 16"/>
          <p:cNvSpPr/>
          <p:nvPr/>
        </p:nvSpPr>
        <p:spPr>
          <a:xfrm>
            <a:off x="4952880" y="3657600"/>
            <a:ext cx="1143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Box 17"/>
          <p:cNvSpPr/>
          <p:nvPr/>
        </p:nvSpPr>
        <p:spPr>
          <a:xfrm>
            <a:off x="990720" y="5334120"/>
            <a:ext cx="1371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Box 18"/>
          <p:cNvSpPr/>
          <p:nvPr/>
        </p:nvSpPr>
        <p:spPr>
          <a:xfrm>
            <a:off x="3429000" y="5334120"/>
            <a:ext cx="457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19"/>
          <p:cNvSpPr/>
          <p:nvPr/>
        </p:nvSpPr>
        <p:spPr>
          <a:xfrm>
            <a:off x="5029200" y="5334120"/>
            <a:ext cx="1143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20"/>
          <p:cNvSpPr/>
          <p:nvPr/>
        </p:nvSpPr>
        <p:spPr>
          <a:xfrm>
            <a:off x="7086600" y="365760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21"/>
          <p:cNvSpPr/>
          <p:nvPr/>
        </p:nvSpPr>
        <p:spPr>
          <a:xfrm>
            <a:off x="7086600" y="5334120"/>
            <a:ext cx="457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881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3282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runc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282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4282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runc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4282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583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s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583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401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s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401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901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runc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901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15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4702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s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4702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175248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problem looks like this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Rectangle 1027"/>
          <p:cNvSpPr/>
          <p:nvPr/>
        </p:nvSpPr>
        <p:spPr>
          <a:xfrm>
            <a:off x="685800" y="22096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5716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ane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ate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pizza,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wiped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lips, and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burping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th content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4" descr="unhappy_edit.JPG"/>
          <p:cNvPicPr/>
          <p:nvPr/>
        </p:nvPicPr>
        <p:blipFill>
          <a:blip r:embed="rId1"/>
          <a:stretch/>
        </p:blipFill>
        <p:spPr>
          <a:xfrm>
            <a:off x="6629400" y="3048120"/>
            <a:ext cx="2039760" cy="3809880"/>
          </a:xfrm>
          <a:prstGeom prst="rect">
            <a:avLst/>
          </a:prstGeom>
          <a:ln w="0">
            <a:noFill/>
          </a:ln>
        </p:spPr>
      </p:pic>
      <p:sp>
        <p:nvSpPr>
          <p:cNvPr id="181" name="Rounded Rectangular Callout 7"/>
          <p:cNvSpPr/>
          <p:nvPr/>
        </p:nvSpPr>
        <p:spPr>
          <a:xfrm>
            <a:off x="1143000" y="4191120"/>
            <a:ext cx="3733920" cy="2361960"/>
          </a:xfrm>
          <a:prstGeom prst="wedgeRoundRectCallout">
            <a:avLst>
              <a:gd name="adj1" fmla="val 118976"/>
              <a:gd name="adj2" fmla="val -35555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loo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you’v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don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A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wip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ast tense verbs, but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burp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resent participl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3851"/>
                            </p:stCondLst>
                            <p:childTnLst>
                              <p:par>
                                <p:cTn id="2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4351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5:35:09Z</dcterms:created>
  <dc:creator>Robin L. Simmons</dc:creator>
  <dc:description>This presentation is ©1997 - 2014 by Robin L. Simmons. All Rights Reserved.</dc:description>
  <cp:keywords>parallelism parallel non-parallel structure grammar Grammar Bytes! Robin L. Simmons</cp:keywords>
  <dc:language>en-US</dc:language>
  <cp:lastModifiedBy>Hilary C Wiltshire</cp:lastModifiedBy>
  <dcterms:modified xsi:type="dcterms:W3CDTF">2014-02-19T19:47:16Z</dcterms:modified>
  <cp:revision>503</cp:revision>
  <dc:subject/>
  <dc:title>Parallelism</dc:title>
</cp:coreProperties>
</file>